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EDA-6319-496B-9608-F62E346D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A8A-19C7-4C8F-B3C9-E836FEC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6CD-6EF0-480C-BAC3-44EC4179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753-12AA-41D1-B90E-43B60853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5A1-994B-4C04-90C9-8B1F1F3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832-1381-4FBD-837B-AA0A27B0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673-5A41-499B-A952-419DC136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E99-B332-434C-9B08-A7FDFE8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80A-862C-4378-B4E4-5D4A205F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3A5-D7A3-4D15-9AF5-83F9EACB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308-2624-4A00-B65E-4029F2D1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C17-C46C-423F-BB0A-291117B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5019-F066-46BC-94C1-8E3B7370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issipp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mississippi/" TargetMode="External"/><Relationship Id="rId4" Type="http://schemas.openxmlformats.org/officeDocument/2006/relationships/hyperlink" Target="http://www.jewelrymall.com/cgibin/xlinker.cgi?loc=112&amp;lf=112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9680" y="5334120"/>
            <a:ext cx="20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Rodrig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. 17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371600"/>
            <a:ext cx="6019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0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ssissipp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08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10552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Song: Fifty States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issipp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5/11, http://www.50stat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2,967,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ed the Union: December10,1699 as the 4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by valor and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Magnolia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Magn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Mocking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Go,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from Indian  tribes Ojibwa mici zibi meaning “Great River” or “Gathering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: Highest point Woodall mountains. Also makes a lot of money from cotton Mississippi is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tton making in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838080"/>
            <a:ext cx="2686320" cy="4191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4979880"/>
            <a:ext cx="2895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chanted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ssissippi, October 18,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mississipp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28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of Mississi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2590920"/>
            <a:ext cx="3348000" cy="377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62720" y="1371600"/>
            <a:ext cx="32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welry 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24 2011 http://www.jewelrymall.com/stones/ag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rges petrified w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57400" y="1522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nton Hall in Natchez 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632448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Ca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25,2011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337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4852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 Card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25,2011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8Z</dcterms:created>
  <dc:creator>install</dc:creator>
  <dc:description/>
  <dc:language>en-US</dc:language>
  <cp:lastModifiedBy>install</cp:lastModifiedBy>
  <dcterms:modified xsi:type="dcterms:W3CDTF">2011-10-27T13:39:15Z</dcterms:modified>
  <cp:revision>7</cp:revision>
  <dc:subject/>
  <dc:title>Slide 1</dc:title>
</cp:coreProperties>
</file>